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226-BC40-4B0C-9D74-24CB17F7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B71-E4F6-4256-84AF-E79EB67E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6DF-DFA1-46AC-860A-0BE29C74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3BB-24F2-48FA-80DD-A34A80D9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422-9999-4593-A7BA-431295BF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26D-70B6-400B-A33D-751AC8EF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5E5-0BF7-477A-863A-80A503D1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48C-D90A-48EA-BDC4-1306F1B3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228-FD2C-4B2B-A699-3AE86FD1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40B-6C9E-45FC-8D00-E9ABBA65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8FF-577B-41B0-85A9-9A809D6B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38E-6354-413E-BC05-BBEBD74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81DA-BEF0-4F56-8A62-8EF677F54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20" y="1707840"/>
            <a:ext cx="8975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мир, прощение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що търсим във свет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звират в изобили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у Господа Хри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4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5440" y="1037520"/>
            <a:ext cx="7594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и радост, този м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ебесен пир и светост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, потърси и сам вк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този ми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ъв Госп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74360" y="2001600"/>
            <a:ext cx="7663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всяко престъплени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е всякога готов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със пълно опрощени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 милост, и люб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75440" y="1037520"/>
            <a:ext cx="7594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и радост, този м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ебесен пир и светост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, потърси и сам вк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този ми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ъв Госп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1800" y="2041560"/>
            <a:ext cx="8666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Помага Той с небесна мощ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през бури и въл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кога се борим в тъмна нощ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рага да победи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75440" y="1037520"/>
            <a:ext cx="7594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и радост, този м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ебесен пир и светост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, потърси и сам вк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този ми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ъв Госп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35:18Z</dcterms:created>
  <dc:creator>TrifonTrifonow</dc:creator>
  <dc:description/>
  <dc:language>en-US</dc:language>
  <cp:lastModifiedBy>TrifonTrifonow</cp:lastModifiedBy>
  <dcterms:modified xsi:type="dcterms:W3CDTF">2005-11-22T06:49:54Z</dcterms:modified>
  <cp:revision>6</cp:revision>
  <dc:subject/>
  <dc:title>Slide 1</dc:title>
</cp:coreProperties>
</file>